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bomb.wav" ContentType="audio/x-wav"/>
  <Override PartName="/ppt/media/image7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767-97BE-40D9-8117-4F7AE08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BA6-D403-474E-99C5-E3DA7E2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EDB-8206-480A-B821-CC6B18AB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FCB-923E-4D6F-BAAE-63AE98F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93C-405B-423B-AEE6-4AB0A20C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7AA-089C-4076-BA81-A199B2F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5DCC-2184-4C79-9491-B8E993E7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FE37-AA4D-4942-B2B5-95E83863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05C5-CC3D-45A6-94F7-55B6F26C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D57-9DAC-425B-B622-5A45BE6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0559-4A5A-4D51-8000-E573B6F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A47-39B3-4279-8FCC-3FF2F24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E34D-A84C-42B4-A352-E1D232E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8E59-2895-45FB-B596-532AD42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4D6-5FFA-4B65-B1F0-09EB2BC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6D0-745C-4E91-BC75-2AC783C0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10ED-1299-40AE-8DFB-2F45D96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12A-F58F-4B71-AB7F-7893DF62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738-AED3-458A-909E-7B2290FB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E2D-61EE-46A6-895E-A8FBBA3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0EA-87CD-485D-96AF-7D0CFD1D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80B-78BE-48FC-ACA1-463B8D1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BE7-42E4-4100-972D-1A9B88B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247-F504-4CF8-BB4E-F648CBD9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DFB-FB1F-409A-932B-38FBA12187FD}" type="slidenum">
              <a:rPr b="0" lang="en-US" sz="1200" spc="-1" strike="noStrike">
                <a:solidFill>
                  <a:srgbClr val="cce1f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FC1F-8B7C-4984-AEB9-B57B16D93FD5}" type="slidenum">
              <a:rPr b="0" lang="en-US" sz="1200" spc="-1" strike="noStrike">
                <a:solidFill>
                  <a:srgbClr val="cce1f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ewishvirtuallibrary.org/" TargetMode="External"/><Relationship Id="rId2" Type="http://schemas.openxmlformats.org/officeDocument/2006/relationships/hyperlink" Target="http://www.spartacus.schoolnet.co.uk/2WWgo" TargetMode="External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uns will make us powerful; butter will only make us fat.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- Hermann Goer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" name="Picture 2" descr="http://www.law.umkc.edu/faculty/projects/ftrials/nuremberg/Herman_Goering.jpg"/>
          <p:cNvPicPr/>
          <p:nvPr/>
        </p:nvPicPr>
        <p:blipFill>
          <a:blip r:embed="rId2"/>
          <a:stretch/>
        </p:blipFill>
        <p:spPr>
          <a:xfrm>
            <a:off x="2590920" y="3809880"/>
            <a:ext cx="191772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Source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www.jewishvirtuallibrary.org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history1900s.about.com/library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www.spartacus.schoolnet.co.uk/2WWg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historyplace.com/../h-goering.htm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snopes.com/quotes/goering.asp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euronet.nl/../goering.htm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law.umkc.edu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topnews.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library.usu.edu 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Background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orn on January 12, 1893 in Rosenheim, Upper Bava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f five children in famil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rents were Heinrich and Franziska Ern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0" name="Picture 4" descr="http://www.ngfl-cymru.org.uk/vtc/ngfl/history/nazi_prop/images/nazi-index_04.jpg"/>
          <p:cNvPicPr/>
          <p:nvPr/>
        </p:nvPicPr>
        <p:blipFill>
          <a:blip r:embed="rId1"/>
          <a:stretch/>
        </p:blipFill>
        <p:spPr>
          <a:xfrm>
            <a:off x="2057400" y="3505320"/>
            <a:ext cx="47149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Schooling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nt to boarding school in Ansbach, Franconia in 190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ent to cadet institutes at Karlsruh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ilitary college at Lichterfeld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" name="Picture 2" descr="http://www.hitlerpages.com/wpimages/wp6be495d7_02.jpg"/>
          <p:cNvPicPr/>
          <p:nvPr/>
        </p:nvPicPr>
        <p:blipFill>
          <a:blip r:embed="rId1"/>
          <a:stretch/>
        </p:blipFill>
        <p:spPr>
          <a:xfrm>
            <a:off x="2438280" y="3429000"/>
            <a:ext cx="4051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World War I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antry when war beg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eived iron cross, first cla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orked at Fokker Aircraft for 2 yea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6" name="Picture 3" descr="8YOQBMCA78NHLECA6NBFJDCA0XJ0NKCAEO0LOMCAD52WS1CA5R1X28CAC2XLCYCAQLKTBRCA45021VCA5SQH5VCA0VLCRWCAE00OINCARNUPKYCA0OFO1PCASI7W2ICAMRAPQQCA3RAOTA.jpg"/>
          <p:cNvPicPr/>
          <p:nvPr/>
        </p:nvPicPr>
        <p:blipFill>
          <a:blip r:embed="rId1"/>
          <a:stretch/>
        </p:blipFill>
        <p:spPr>
          <a:xfrm>
            <a:off x="2286000" y="3733920"/>
            <a:ext cx="40006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Between War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rolled at University of Muni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rticipated in Beer Hall Putsch in 1923 injuring his groi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me addicted to morphine which he used to alleviate pai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ected to Reichstag in 1928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me president of Reichstag in 193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World War II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ed the Jews 1 million marks for damages in which Nazis inflic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reated SS police, Gestap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ppointed by Hitler as head of Sturm Abteilu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lenipotentiary for Implementation of Four Year Pl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1" name="Picture 3" descr="images.jpg"/>
          <p:cNvPicPr/>
          <p:nvPr/>
        </p:nvPicPr>
        <p:blipFill>
          <a:blip r:embed="rId1"/>
          <a:stretch/>
        </p:blipFill>
        <p:spPr>
          <a:xfrm>
            <a:off x="3657600" y="4267080"/>
            <a:ext cx="16383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Accomplishment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reated SS police and Gestap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r Ace and killed 22 Allied aircraf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ichsmarschal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ad of Luftwaff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4" name="Picture 3" descr="lufwaffe.jpg"/>
          <p:cNvPicPr/>
          <p:nvPr/>
        </p:nvPicPr>
        <p:blipFill>
          <a:blip r:embed="rId1"/>
          <a:stretch/>
        </p:blipFill>
        <p:spPr>
          <a:xfrm>
            <a:off x="3962520" y="2971800"/>
            <a:ext cx="259704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Positions in Governmen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mmander-in-Chief of Luftwaff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esident of Reichsta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me Minister of Pruss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tler’s designated succes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man in the Third Rei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7" name="Picture 3" descr="goering_hitler.jpg"/>
          <p:cNvPicPr/>
          <p:nvPr/>
        </p:nvPicPr>
        <p:blipFill>
          <a:blip r:embed="rId1"/>
          <a:stretch/>
        </p:blipFill>
        <p:spPr>
          <a:xfrm>
            <a:off x="5791320" y="2666880"/>
            <a:ext cx="285732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Trial and Death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tler had him arrested for trying to overthrow the govern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nd guilty at Nuremberg War Crimes Tri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wallowed a cyanide capsule in jail committing suicid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0" name="Picture 3" descr="Goersuicide.jpg"/>
          <p:cNvPicPr/>
          <p:nvPr/>
        </p:nvPicPr>
        <p:blipFill>
          <a:blip r:embed="rId1"/>
          <a:stretch/>
        </p:blipFill>
        <p:spPr>
          <a:xfrm>
            <a:off x="2590920" y="3809880"/>
            <a:ext cx="360360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7:44Z</dcterms:created>
  <dc:creator> </dc:creator>
  <dc:description/>
  <dc:language>en-US</dc:language>
  <cp:lastModifiedBy> </cp:lastModifiedBy>
  <dcterms:modified xsi:type="dcterms:W3CDTF">2009-11-25T17:09:31Z</dcterms:modified>
  <cp:revision>26</cp:revision>
  <dc:subject/>
  <dc:title>Hermann Goering</dc:title>
</cp:coreProperties>
</file>